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B3C-A6E5-421D-B1F5-13ED28D3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D31-0F5B-4FA8-B7EF-86354024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653-D1E8-4333-A755-B58FA2ED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037-CA8E-48F6-AF75-5FE0C0A0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E9C-41D8-41FB-BB9B-D2EC7F67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035-8584-47B0-880C-00E5E495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067-6F6F-45EA-A4BE-0E0C1C0C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2DA-F049-4F99-9B68-79FE05ED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C8A-31C7-4A9A-9C8A-C4156E91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81C-9605-48EA-AF83-561DB42D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9ED-582C-41A5-BB0E-432F9B15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B03-E240-4A9F-8B99-F34A2BB2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5EC4-1BBA-45C6-A357-D7DD8E599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802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5105520" cy="4952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5334120"/>
            <a:ext cx="92203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 es tu cuarto favorito?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440240" y="2590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77166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466884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6325920" y="297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6040440" y="3886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Propósito # 12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¿Qué comes t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uartos 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\ La Comida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  (food, me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114800" y="2581200"/>
            <a:ext cx="3809880" cy="2905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62000" y="1066680"/>
            <a:ext cx="1147680" cy="165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522520" y="1190520"/>
            <a:ext cx="1135080" cy="17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1295280" y="4952880"/>
            <a:ext cx="1614600" cy="16765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8"/>
          <p:cNvSpPr/>
          <p:nvPr/>
        </p:nvSpPr>
        <p:spPr>
          <a:xfrm>
            <a:off x="4648320" y="5943600"/>
            <a:ext cx="274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l desayu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 flipV="1">
            <a:off x="5867280" y="2362320"/>
            <a:ext cx="0" cy="7617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5181480" y="1827360"/>
            <a:ext cx="14479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ue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7238880" y="2895480"/>
            <a:ext cx="685800" cy="6098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781680" y="2362320"/>
            <a:ext cx="23623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an </a:t>
            </a: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(tost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6553080" y="4495680"/>
            <a:ext cx="914400" cy="6098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7010280" y="5027760"/>
            <a:ext cx="2133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lchic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 flipH="1">
            <a:off x="4114800" y="4800600"/>
            <a:ext cx="83808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3048120" y="4494240"/>
            <a:ext cx="14475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toc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2666880" y="2971800"/>
            <a:ext cx="914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f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8"/>
          <p:cNvSpPr/>
          <p:nvPr/>
        </p:nvSpPr>
        <p:spPr>
          <a:xfrm>
            <a:off x="152280" y="2133720"/>
            <a:ext cx="198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Ju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de nar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2286000" y="6019920"/>
            <a:ext cx="12193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0" descr=""/>
          <p:cNvPicPr/>
          <p:nvPr/>
        </p:nvPicPr>
        <p:blipFill>
          <a:blip r:embed="rId5"/>
          <a:stretch/>
        </p:blipFill>
        <p:spPr>
          <a:xfrm>
            <a:off x="152280" y="32767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21"/>
          <p:cNvSpPr/>
          <p:nvPr/>
        </p:nvSpPr>
        <p:spPr>
          <a:xfrm>
            <a:off x="1447920" y="3505320"/>
            <a:ext cx="20574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hoco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600200" cy="138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1371600" y="2666880"/>
            <a:ext cx="11034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590920" y="99072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1719360" cy="1231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5"/>
          <a:stretch/>
        </p:blipFill>
        <p:spPr>
          <a:xfrm>
            <a:off x="2743200" y="3048120"/>
            <a:ext cx="1828800" cy="165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6"/>
          <a:stretch/>
        </p:blipFill>
        <p:spPr>
          <a:xfrm>
            <a:off x="304920" y="4114800"/>
            <a:ext cx="1904760" cy="1650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7"/>
          <a:stretch/>
        </p:blipFill>
        <p:spPr>
          <a:xfrm>
            <a:off x="7086600" y="1828800"/>
            <a:ext cx="900000" cy="1419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8"/>
          <a:stretch/>
        </p:blipFill>
        <p:spPr>
          <a:xfrm>
            <a:off x="5257800" y="3429000"/>
            <a:ext cx="89532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9"/>
          <a:stretch/>
        </p:blipFill>
        <p:spPr>
          <a:xfrm>
            <a:off x="7562880" y="3581280"/>
            <a:ext cx="1581120" cy="1581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3"/>
          <p:cNvSpPr/>
          <p:nvPr/>
        </p:nvSpPr>
        <p:spPr>
          <a:xfrm>
            <a:off x="5791320" y="838080"/>
            <a:ext cx="274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El Almuer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0" y="1981080"/>
            <a:ext cx="23623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mburgu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5"/>
          <p:cNvSpPr/>
          <p:nvPr/>
        </p:nvSpPr>
        <p:spPr>
          <a:xfrm>
            <a:off x="152280" y="3048120"/>
            <a:ext cx="12193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6"/>
          <p:cNvSpPr/>
          <p:nvPr/>
        </p:nvSpPr>
        <p:spPr>
          <a:xfrm>
            <a:off x="3124080" y="2209680"/>
            <a:ext cx="12193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4724280" y="2743200"/>
            <a:ext cx="16765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ándw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8"/>
          <p:cNvSpPr/>
          <p:nvPr/>
        </p:nvSpPr>
        <p:spPr>
          <a:xfrm>
            <a:off x="685800" y="5865840"/>
            <a:ext cx="10666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9"/>
          <p:cNvSpPr/>
          <p:nvPr/>
        </p:nvSpPr>
        <p:spPr>
          <a:xfrm>
            <a:off x="2819520" y="4724280"/>
            <a:ext cx="1523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sa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0"/>
          <p:cNvSpPr/>
          <p:nvPr/>
        </p:nvSpPr>
        <p:spPr>
          <a:xfrm>
            <a:off x="6934320" y="3200400"/>
            <a:ext cx="10666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1"/>
          <p:cNvSpPr/>
          <p:nvPr/>
        </p:nvSpPr>
        <p:spPr>
          <a:xfrm>
            <a:off x="5257800" y="4876920"/>
            <a:ext cx="12193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2"/>
          <p:cNvSpPr/>
          <p:nvPr/>
        </p:nvSpPr>
        <p:spPr>
          <a:xfrm>
            <a:off x="7467480" y="5103720"/>
            <a:ext cx="16765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ase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3"/>
          <p:cNvSpPr/>
          <p:nvPr/>
        </p:nvSpPr>
        <p:spPr>
          <a:xfrm>
            <a:off x="7848720" y="5486400"/>
            <a:ext cx="1218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4"/>
          <p:cNvSpPr/>
          <p:nvPr/>
        </p:nvSpPr>
        <p:spPr>
          <a:xfrm>
            <a:off x="7391520" y="5865840"/>
            <a:ext cx="1752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fres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5"/>
          <p:cNvSpPr/>
          <p:nvPr/>
        </p:nvSpPr>
        <p:spPr>
          <a:xfrm>
            <a:off x="6019920" y="3886200"/>
            <a:ext cx="1752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ebi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6"/>
          <p:cNvSpPr/>
          <p:nvPr/>
        </p:nvSpPr>
        <p:spPr>
          <a:xfrm flipH="1">
            <a:off x="5866920" y="4267080"/>
            <a:ext cx="83844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 flipV="1">
            <a:off x="7010280" y="3580920"/>
            <a:ext cx="22860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7010280" y="4267080"/>
            <a:ext cx="60984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9" descr="MC900441781[1]"/>
          <p:cNvPicPr/>
          <p:nvPr/>
        </p:nvPicPr>
        <p:blipFill>
          <a:blip r:embed="rId10"/>
          <a:stretch/>
        </p:blipFill>
        <p:spPr>
          <a:xfrm>
            <a:off x="2286000" y="5181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"/>
          <p:cNvPicPr/>
          <p:nvPr/>
        </p:nvPicPr>
        <p:blipFill>
          <a:blip r:embed="rId11"/>
          <a:stretch/>
        </p:blipFill>
        <p:spPr>
          <a:xfrm>
            <a:off x="3657600" y="5105520"/>
            <a:ext cx="1523880" cy="12189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1"/>
          <p:cNvSpPr/>
          <p:nvPr/>
        </p:nvSpPr>
        <p:spPr>
          <a:xfrm>
            <a:off x="2133720" y="6094440"/>
            <a:ext cx="1371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2"/>
          <p:cNvSpPr/>
          <p:nvPr/>
        </p:nvSpPr>
        <p:spPr>
          <a:xfrm>
            <a:off x="3581280" y="6246720"/>
            <a:ext cx="18288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chu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171144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7238880" y="3048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3"/>
          <a:stretch/>
        </p:blipFill>
        <p:spPr>
          <a:xfrm>
            <a:off x="6781680" y="533520"/>
            <a:ext cx="2362320" cy="1687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4"/>
          <a:stretch/>
        </p:blipFill>
        <p:spPr>
          <a:xfrm>
            <a:off x="5537160" y="4419720"/>
            <a:ext cx="225900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5"/>
          <a:stretch/>
        </p:blipFill>
        <p:spPr>
          <a:xfrm>
            <a:off x="2514600" y="838080"/>
            <a:ext cx="1943280" cy="1533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6"/>
          <a:stretch/>
        </p:blipFill>
        <p:spPr>
          <a:xfrm>
            <a:off x="228600" y="3505320"/>
            <a:ext cx="3124080" cy="14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7"/>
          <a:stretch/>
        </p:blipFill>
        <p:spPr>
          <a:xfrm>
            <a:off x="4648320" y="1371600"/>
            <a:ext cx="1952640" cy="135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MC900112420[1]"/>
          <p:cNvPicPr/>
          <p:nvPr/>
        </p:nvPicPr>
        <p:blipFill>
          <a:blip r:embed="rId8"/>
          <a:stretch/>
        </p:blipFill>
        <p:spPr>
          <a:xfrm>
            <a:off x="3429000" y="4330800"/>
            <a:ext cx="2057400" cy="111132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5"/>
          <p:cNvSpPr/>
          <p:nvPr/>
        </p:nvSpPr>
        <p:spPr>
          <a:xfrm>
            <a:off x="685800" y="2284560"/>
            <a:ext cx="11430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is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2819520" y="2362320"/>
            <a:ext cx="11430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8"/>
          <p:cNvSpPr/>
          <p:nvPr/>
        </p:nvSpPr>
        <p:spPr>
          <a:xfrm>
            <a:off x="4876920" y="990720"/>
            <a:ext cx="17524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9"/>
          <p:cNvSpPr/>
          <p:nvPr/>
        </p:nvSpPr>
        <p:spPr>
          <a:xfrm>
            <a:off x="1981080" y="6094440"/>
            <a:ext cx="274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La c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0"/>
          <p:cNvSpPr/>
          <p:nvPr/>
        </p:nvSpPr>
        <p:spPr>
          <a:xfrm>
            <a:off x="914400" y="4951440"/>
            <a:ext cx="21337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ege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gum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1"/>
          <p:cNvSpPr/>
          <p:nvPr/>
        </p:nvSpPr>
        <p:spPr>
          <a:xfrm>
            <a:off x="4343400" y="3808440"/>
            <a:ext cx="1752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t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2"/>
          <p:cNvSpPr/>
          <p:nvPr/>
        </p:nvSpPr>
        <p:spPr>
          <a:xfrm>
            <a:off x="7772400" y="5562720"/>
            <a:ext cx="13716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3"/>
          <p:cNvSpPr/>
          <p:nvPr/>
        </p:nvSpPr>
        <p:spPr>
          <a:xfrm>
            <a:off x="7391520" y="4343400"/>
            <a:ext cx="1371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r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4"/>
          <p:cNvSpPr/>
          <p:nvPr/>
        </p:nvSpPr>
        <p:spPr>
          <a:xfrm>
            <a:off x="7315200" y="2133720"/>
            <a:ext cx="13716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ij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5"/>
          <p:cNvSpPr/>
          <p:nvPr/>
        </p:nvSpPr>
        <p:spPr>
          <a:xfrm>
            <a:off x="7010280" y="2514600"/>
            <a:ext cx="1981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bichu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5943600" y="1066680"/>
            <a:ext cx="2281320" cy="243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5943600" y="3809880"/>
            <a:ext cx="2381400" cy="2183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685800" y="38862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9"/>
          <p:cNvSpPr/>
          <p:nvPr/>
        </p:nvSpPr>
        <p:spPr>
          <a:xfrm>
            <a:off x="380880" y="3352680"/>
            <a:ext cx="274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5486400" y="3276720"/>
            <a:ext cx="3352680" cy="61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 super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04920" y="5867280"/>
            <a:ext cx="274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 resta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5715000" y="5865840"/>
            <a:ext cx="274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 caf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 el dialogo y responde las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ris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Javier,¿tienes una familia gra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avi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, bastante grande. Somos siete. Teng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atro her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ris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¿Viven ustedes aqui en la capi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avier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, vivimos en la capital. Tenemos u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rtamento en el edificio Bolivar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tell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¿Tiene Javier una familia gran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¿Cuantos hermanos tiene Javi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¿Vive su familia en la capit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¿Donde tienen un apartamen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¿En que seccion de la ciudad esta el edificio Boliv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1430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A CASA Y LA COM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71600" y="30492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0:24:51Z</dcterms:created>
  <dc:creator>Helen Zumaeta</dc:creator>
  <dc:description/>
  <dc:language>en-US</dc:language>
  <cp:lastModifiedBy>Helen Zumaeta</cp:lastModifiedBy>
  <cp:lastPrinted>2014-10-01T19:18:14Z</cp:lastPrinted>
  <dcterms:modified xsi:type="dcterms:W3CDTF">2014-10-01T21:04:26Z</dcterms:modified>
  <cp:revision>18</cp:revision>
  <dc:subject/>
  <dc:title>Me llamo _________ Clase 6 nh/il La fecha es el 10 de marzo del 2011</dc:title>
</cp:coreProperties>
</file>